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EA05-6D4F-40BD-979C-C596DC968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20600"/>
            <a:ext cx="8220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FAFA-822C-4C3F-9DC9-01718575F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42A2-F3E9-4BC4-8742-7ABE030B4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206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7206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960" y="3720600"/>
            <a:ext cx="26467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CFDB-0732-4A67-8D26-920EF75ABF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0AFA-4108-4DDF-A835-58571660C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56E2-3D61-43A2-882B-1C7711E98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6FEA-C987-4AA2-8C0F-E3552EAA3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56C6-BAEB-4EE8-9805-5008B5A5B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024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814B-C24F-4F83-B6C4-AD2BEB909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2656-89CB-4AE7-AE41-293EB8D7B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200" y="37206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A8D8-4F38-4340-A1CB-25DFC6C4B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20600"/>
            <a:ext cx="822024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1F02-8A74-472F-B3A1-4F5E90A40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3360" indent="-33336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5268D-3FA4-4848-9729-9A19B6640AD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457200" y="27468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533520" y="0"/>
            <a:ext cx="14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80880" y="903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orld Digital Library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ww.wdl.org</a:t>
            </a: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 flipH="1">
            <a:off x="6248520" y="7632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I  |  WEB SERVIC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World Digital Library Arab Peninsula Regional Group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oha, Qatar, December 12-14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n Introduction to the W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477120" y="533412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John Van Oudenar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57200" y="0"/>
            <a:ext cx="19810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685800"/>
          <a:ext cx="325116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325116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2590920"/>
            <a:ext cx="70102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spcBef>
                <a:spcPts val="3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rab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hin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ortugu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uss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pa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956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urrent set of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1981080" y="1447920"/>
            <a:ext cx="76680" cy="511920"/>
          </a:xfrm>
          <a:prstGeom prst="straightConnector1">
            <a:avLst/>
          </a:prstGeom>
          <a:ln w="0">
            <a:noFill/>
          </a:ln>
        </p:spPr>
      </p:cxn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04920" y="1219320"/>
            <a:ext cx="22096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62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Languages of pages vie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3640" y="373392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Spanish: 53.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59000" y="4800600"/>
            <a:ext cx="22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983c"/>
                </a:solidFill>
                <a:latin typeface="Arial"/>
              </a:rPr>
              <a:t>English: 20.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1120" y="3429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Portuguese: 10.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ussian: 5.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55880" y="198108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15eb"/>
                </a:solidFill>
                <a:latin typeface="Arial"/>
              </a:rPr>
              <a:t>Chinese: 3.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523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rench: 3.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96000" y="17524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cc2a"/>
                </a:solidFill>
                <a:latin typeface="Arial"/>
              </a:rPr>
              <a:t>Arabic</a:t>
            </a:r>
            <a:r>
              <a:rPr b="0" lang="en-US" sz="2400" spc="-1" strike="noStrike">
                <a:solidFill>
                  <a:srgbClr val="d2c914"/>
                </a:solidFill>
                <a:latin typeface="Arial"/>
              </a:rPr>
              <a:t>: 1.4%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316548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15000" y="6264360"/>
            <a:ext cx="326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pril, 21 2009 – October 31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920" y="1219320"/>
            <a:ext cx="22096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62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op countries by vis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6264360"/>
            <a:ext cx="349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pril 21, 2009 – October 31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7360" y="1095480"/>
            <a:ext cx="7829280" cy="46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304920" y="1219320"/>
            <a:ext cx="22096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626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op external search engines referring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6264360"/>
            <a:ext cx="349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pril 21, 2009 – October 31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1257480"/>
            <a:ext cx="743904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304920" y="1219320"/>
            <a:ext cx="22096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626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op searches on the WDL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6264360"/>
            <a:ext cx="349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pril 21, 2009 – October 31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69644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Partners in the Arab World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heca Alexand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Library and Archives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atar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Ministry, Kingdom of Bah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aqi National Library an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touan-Asmir Association, 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Abdullah University of Science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l Museum and Manuscript Library partners in Syria and Leban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02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ontent Selection</a:t>
            </a:r>
            <a:endParaRPr b="0" lang="en-US" sz="2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elec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o-American Co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Languag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ic Scientific Manu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Asian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ian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role of partner institutions – curators and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457200" y="762120"/>
            <a:ext cx="776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 website, 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http://www.wdl.org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that provides free access to primary sources that document the histories and cultural achievements of all count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3733920" y="2098800"/>
            <a:ext cx="4816440" cy="3387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366840" y="2209680"/>
            <a:ext cx="329076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Rare 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Jour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Manuscri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Ma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Prints and photograp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Sound record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b2b2b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Timeli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June 2005: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 Dr. Billington proposes creation of a World Digital Librar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cember 2005: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 Initial funding secure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cember 2006: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 Agreements with UNESCO; WDL Experts Mee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October 2007: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 Prototype unveiled at UNESCO General Conferen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pril 2009: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www.wdl.org launche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March 2010: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WDL Charter adopte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June 2010: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Partner meeting under the WDL ch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457200" y="1676520"/>
            <a:ext cx="7763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In addition to building a website, the WDL is also an effort to share knowledge and build capacity around the worl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Assisting in the establishment of digital conversion centers (Egypt, Iraq, Ugan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Encouraging digitization where little or no digital content is being produ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Facilitating cooperation between experienced institutions and those just getting sta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1211400"/>
            <a:ext cx="3962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5256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Digital conversion ce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uganda1"/>
          <p:cNvPicPr/>
          <p:nvPr/>
        </p:nvPicPr>
        <p:blipFill>
          <a:blip r:embed="rId1"/>
          <a:stretch/>
        </p:blipFill>
        <p:spPr>
          <a:xfrm>
            <a:off x="533520" y="1058760"/>
            <a:ext cx="3429000" cy="202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380880" y="3100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ing scanning equipment to the National Library of Ugan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Marwa Hamdy scanning a 19th century book."/>
          <p:cNvPicPr/>
          <p:nvPr/>
        </p:nvPicPr>
        <p:blipFill>
          <a:blip r:embed="rId2"/>
          <a:stretch/>
        </p:blipFill>
        <p:spPr>
          <a:xfrm>
            <a:off x="533520" y="3726000"/>
            <a:ext cx="3047760" cy="229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Text Box 8"/>
          <p:cNvSpPr/>
          <p:nvPr/>
        </p:nvSpPr>
        <p:spPr>
          <a:xfrm>
            <a:off x="380880" y="6087960"/>
            <a:ext cx="449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ly trained staff at the National Library and Archives of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8" descr="iraq_center"/>
          <p:cNvPicPr/>
          <p:nvPr/>
        </p:nvPicPr>
        <p:blipFill>
          <a:blip r:embed="rId3"/>
          <a:stretch/>
        </p:blipFill>
        <p:spPr>
          <a:xfrm>
            <a:off x="4952880" y="2036880"/>
            <a:ext cx="3391200" cy="261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Text Box 11"/>
          <p:cNvSpPr/>
          <p:nvPr/>
        </p:nvSpPr>
        <p:spPr>
          <a:xfrm>
            <a:off x="4800600" y="471636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at the Iraqi National Library and Arch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28600" y="1676520"/>
            <a:ext cx="541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宋体"/>
              </a:rPr>
              <a:t>116 partners from 63 countries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National libr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University libr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Public libr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Arch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Museu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rcRect l="11250" t="12000" r="12502" b="18628"/>
          <a:stretch/>
        </p:blipFill>
        <p:spPr>
          <a:xfrm>
            <a:off x="3429000" y="2454120"/>
            <a:ext cx="5467320" cy="31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457200" y="1371600"/>
            <a:ext cx="7763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743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宋体"/>
              </a:rPr>
              <a:t>Gover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743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Ch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743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Executive Counc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7430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Project Committ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9"/>
              </a:spcBef>
              <a:spcAft>
                <a:spcPts val="624"/>
              </a:spcAft>
              <a:buClr>
                <a:srgbClr val="b2b2b2"/>
              </a:buClr>
              <a:buFont typeface="Wingdings" charset="2"/>
              <a:buChar char=""/>
              <a:tabLst>
                <a:tab algn="l" pos="743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Content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9"/>
              </a:spcBef>
              <a:spcAft>
                <a:spcPts val="624"/>
              </a:spcAft>
              <a:buClr>
                <a:srgbClr val="b2b2b2"/>
              </a:buClr>
              <a:buFont typeface="Wingdings" charset="2"/>
              <a:buChar char=""/>
              <a:tabLst>
                <a:tab algn="l" pos="743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Technical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9"/>
              </a:spcBef>
              <a:spcAft>
                <a:spcPts val="624"/>
              </a:spcAft>
              <a:buClr>
                <a:srgbClr val="b2b2b2"/>
              </a:buClr>
              <a:buFont typeface="Wingdings" charset="2"/>
              <a:buChar char=""/>
              <a:tabLst>
                <a:tab algn="l" pos="743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Translation and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9"/>
              </a:spcBef>
              <a:spcAft>
                <a:spcPts val="624"/>
              </a:spcAft>
              <a:tabLst>
                <a:tab algn="l" pos="0"/>
                <a:tab algn="l" pos="7430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240" y="4800600"/>
            <a:ext cx="78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宋体"/>
              </a:rPr>
              <a:t>View project site for more information (http://project.wdl.org/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533520" y="2971800"/>
            <a:ext cx="2438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Arial"/>
                <a:ea typeface="宋体"/>
              </a:rPr>
              <a:t>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2057400"/>
            <a:ext cx="6019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0360" y="1918800"/>
            <a:ext cx="3835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Visitors</a:t>
            </a:r>
            <a:br>
              <a:rPr sz="3200"/>
            </a:br>
            <a:r>
              <a:rPr b="1" lang="en-US" sz="4800" spc="-1" strike="noStrike">
                <a:solidFill>
                  <a:srgbClr val="3366cc"/>
                </a:solidFill>
                <a:latin typeface="Arial"/>
              </a:rPr>
              <a:t>12.7 million</a:t>
            </a:r>
            <a:r>
              <a:rPr b="0" lang="en-US" sz="4800" spc="-1" strike="noStrike">
                <a:solidFill>
                  <a:srgbClr val="3366cc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3793680"/>
            <a:ext cx="332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Pages viewed</a:t>
            </a:r>
            <a:br>
              <a:rPr sz="3200"/>
            </a:br>
            <a:r>
              <a:rPr b="1" lang="en-US" sz="4800" spc="-1" strike="noStrike">
                <a:solidFill>
                  <a:srgbClr val="3366cc"/>
                </a:solidFill>
                <a:latin typeface="Arial"/>
              </a:rPr>
              <a:t>87 million</a:t>
            </a:r>
            <a:r>
              <a:rPr b="0" lang="en-US" sz="4800" spc="-1" strike="noStrike">
                <a:solidFill>
                  <a:srgbClr val="3366cc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960" y="2969640"/>
            <a:ext cx="343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ngaged users</a:t>
            </a:r>
            <a:r>
              <a:rPr b="0" lang="en-US" sz="4800" spc="-1" strike="noStrike">
                <a:solidFill>
                  <a:srgbClr val="3366cc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6264360"/>
            <a:ext cx="326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pril, 21 2009 – October 31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6:50:59Z</dcterms:created>
  <dc:creator>mrag</dc:creator>
  <dc:description/>
  <dc:language>en-US</dc:language>
  <cp:lastModifiedBy>azha</cp:lastModifiedBy>
  <dcterms:modified xsi:type="dcterms:W3CDTF">2010-12-23T13:45:51Z</dcterms:modified>
  <cp:revision>456</cp:revision>
  <dc:subject/>
  <dc:title>Slide 1</dc:title>
</cp:coreProperties>
</file>