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6F2-9F49-4705-A4D2-5966C2A8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748-DFCC-4C3A-889B-5A1D336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F3CF-EDDA-455B-912F-C2356411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4A87C-4096-4F6C-B4DB-3EC3F32F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D7DD2-628C-43A2-B7DE-57D990B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E6A3E-1947-42CB-944D-3F1F30D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6E4A-749D-4D16-98E6-C6FE9CD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E6AB2-766D-4F9F-BFC4-3B2F7ED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B2D4D-DE85-4259-8151-BB1DF61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AA46-657C-4E3E-8AAF-5D0A31F9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F389E-204D-4887-B202-6E830E20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2760-7E34-443B-87E6-2FE451C0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F6D-85A4-4C9E-B027-8A437BFB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32BD-5E9A-4416-B64E-6730ED6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C0AB8-295E-4675-903E-05345A0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9A8DD-D79D-4F93-A6D4-040F75D4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E832A-3875-436F-82C5-9430CE5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0F626-A90D-426D-BF46-BF3D95B6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5677E-672E-4E6C-875A-A39F2F2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BB58F-B8BB-4D76-ABF5-4480FA1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C4A14-FAED-42F7-80D9-B877FC9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E7BDB-DA16-4A59-B56B-2BA80DEA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EB97-ED27-4007-992C-2A426370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587-2795-4300-829F-78410332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FDD85-3B64-4133-A8D5-EDCA5915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D2CE-DD41-4EC6-86C4-2FA8C9B5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29951-E637-401B-A019-0EEA522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52089-6E7C-44FE-8A72-09AFAA55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85AF-6B8B-4892-A208-974D3835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E5A6-65A6-4E94-9D9E-2D6D0D4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8E298-548F-4992-8393-D3993DE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CC7C-A887-45D4-A57C-0F0F57D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C2CA-4CCE-45A6-A1C6-15D1DBD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95D6-5919-4EF7-930D-E1DC3D0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8901-8820-4D79-8857-23393DA4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73D3-9BB3-4463-A476-B6566AD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3F7FB-C9A4-4A71-8226-4028D0FF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43F7-1624-4F1C-9E0F-C553DE31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D3170-6601-4EC4-9546-20F8CCD6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9E7AF-CB36-4A85-B286-9523CC0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3251-6788-418C-887D-B76E3A5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790DB-9D0F-4E54-9D0C-7B7312A5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BD96-339C-429D-ADF6-FE556190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99440-D5A7-420C-A85A-8FD560B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E7D7C-72EB-4BD3-BA1A-05715C7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1698-F138-4EE0-956F-FCA5D5AF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E533D-7FB4-491E-B07C-D8FD1F99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359E-45B7-40C1-9EFC-442C282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21917-0C90-43D7-8B5B-9A60D4A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AAD90-DC21-413B-8C49-F3BBF372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6EAC-8198-4A1C-811A-58C20344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5E45B-A292-47A4-A2DA-1F38D2A0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04462-2D38-4CC3-BF26-72D66DE1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1F2C3-FF0E-48DE-94BB-D4FD814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5067C-C1EF-48D2-B771-4A18BA6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FA335-402F-4182-8A25-C02BE99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E7CE-3632-4642-BE71-E432C88D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992E2-FBED-46E2-9045-7C4AC42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1584E-172D-492C-BF65-02F3AE2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7DB63-559C-48CE-A582-22E8DDC1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C7F58-8FE9-48D4-AF33-CD698BB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2A1D1-F01A-413D-9596-D762C95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84649-54B9-4DB2-A972-6CBC5CB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2D1B4-E493-4827-B962-47C6084C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AB144-1370-4CB8-8D6E-12601856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FDBEA-D942-4D8E-B93D-5B4A7D2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36130-247E-4925-9383-2B0D3E5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C37F-2BB0-434E-946D-C82CD08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B4177-290E-4520-9216-4E430731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41283-80FE-4B01-9F2B-2F75D87B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80276-093A-4249-AAAC-6387D396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E00BD-2C5F-4F53-B995-0C6FD3D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7AAE0-C668-417D-9FAE-03ADCAB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8A742-9923-49B9-96A5-31E9F23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4CAC2-22BE-49B3-8349-E77B6FE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B8C1F-AB60-499F-AF24-E9885689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91F09-4F7F-49D4-955B-D5C99EAA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418D2-2C87-4D93-9E10-CE072C5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0FB-F3F8-4174-AE66-BA47531D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E0A55-5CA3-4E7E-B4C5-E9A9702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B89C8-1073-4986-BD81-B76B98F7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CED3C-BF56-4AC0-832E-F7C96DB9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E26DC-6F58-4F92-86DB-702558D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BA139-8DF9-494F-A31C-42E8A80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279E3-5CE9-4325-8552-08CD6E9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8F907-F2FA-4CD3-AF69-7794C5A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D0A25-E539-4292-9055-0208F95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AC39E-C2E6-4C50-B2EF-474EDDA2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072F3-74C0-406B-A16D-A9605A8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37B5-41BF-4A1B-831C-578D0B56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051FC-D81F-4756-8178-32B0B86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F15D-C8E3-4F99-A8BB-CC91EFE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9DE-8223-43DF-918C-E5A8605C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FBF-3FAD-4C04-AEEC-A726198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671-C334-4DB3-B939-0F1D480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03A-C42A-4D14-A311-14D2BA8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1B57-7225-47EE-8DEE-2E29F86D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F087-F668-4D20-BA61-7E5A9BE2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0C74-2117-48F0-AC19-D09AA610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B454-8F59-4612-90AD-3FF6B7C0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CDB4-2A83-4135-9DF0-CC047AA7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7C77-A0FD-4AA2-80B7-DD58A08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1F44-FDA7-4C46-8B45-5A7F7F0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74C-2B0F-41FD-B90D-57FD9089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CA4F-35E3-4C3A-8896-A2BA5E3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4AF1-51E0-4B46-8ECD-3970209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5EEA-8DFD-461A-BF13-0235009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F8CD-C4EF-4372-9DB2-F4A800A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AB74-C97A-434B-9551-5658E5F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2322-F8A7-4AA6-92EA-89AA4148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95E9-7569-4716-8C82-57B5E8BC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C223-6F3A-4A6D-B12B-A40E3392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CD21-4D3C-4792-A76D-E6DB5BB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B64E-8E8B-41DA-B6DA-E53939C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297-E230-4908-B244-0101E4C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A3C8-736C-41D3-96F7-4308819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2C15-339B-4293-B6BB-B6DBB6F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0B77-538B-446A-9D16-3B1271E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D9D8-8A80-4769-9B6F-A833118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298E-AB13-48AE-996A-26575EE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9F3D-5E56-4D3C-8D5F-AF05C72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1607-56CC-411E-A68F-FBB5D5E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EA5E-F7C4-41BD-84D5-51D3F12A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10D7-7736-4C59-9946-0A173975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DBF6-501D-42C7-BD1E-36942D43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5AD-E7FE-4EC0-8903-3038503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C8E5-11AC-47B6-AFF5-8E4454C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CEF0-DFB6-4D0B-ADB9-FB74A5C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1807F-0992-46FC-A4CB-A913DA4B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D113F-BA79-487C-8CB7-DAB646C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E9FD-9032-473C-B44D-D89C2D6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9F82-DF67-44D2-ABDF-B767029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CA43-A3A3-40E2-9094-A3CC7DC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082E-CE48-4C50-937A-FEDF96F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55F8-8A3B-433C-B9D8-22DD51D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E04E-9410-46A0-BC11-5CDB46AA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299-8D62-4E71-934E-182AF463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832D-2CE9-4033-A014-2C18D5E4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9F4D-03D0-485A-8B2D-28867CE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3B35-2B86-43CA-9633-1621295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EFB5-9FFD-4961-B36A-7C8696E8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ECED-82B1-40AA-92EB-53CB268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D2AA-7DE4-4F72-858D-1001EFA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0099-D097-4B71-B28D-642CADF8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2970-1FCA-4A84-B792-2C721C1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4287B-1792-4DA1-AAD1-D8DEB37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5DA1A-550D-4295-9EF4-9E7D108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60C-CDDB-4B6B-8E4D-ABCE44D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D6EF5-69E7-4A07-A4C2-1B39A1B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EBFDE-5CD9-416C-84CB-CF95FABB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42C1-3182-4DA5-8F79-09A886C6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94D01-FCE8-46B3-AAE0-EDAD74E6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2C1F-0B3A-4B56-AE92-2D44B47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AAF4B-204C-40F1-9F5D-92B411DF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EAD75-D53D-48BD-A198-639316AA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ABB1-01A7-4C79-ABB1-6880C612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E14C-3DF9-4FE2-A17A-05408BA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D51D-1EB3-4396-A7C2-13F612E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3E4-1FD7-45E8-B69B-56F6A49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C51C-6D5B-4192-A504-363BBBF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1F12-F40B-43AC-BA36-B40E71E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7F53-5255-46BB-ACF5-706685E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736F-AB25-4EB3-ADAA-1EA869E6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05DA-0B3C-49E1-A2DA-C24FC1BF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B18C-C5BE-4588-A6FA-D5FE2110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CE63-CD9D-449D-A684-BF31CBF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12C9E-C886-4C68-9FD2-C19B2D9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C18B0-259D-4593-92D4-42FCD7ED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39C4-8A24-45E3-81AC-8DFFEA0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992-8DD4-43CF-BC28-8154732B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2162-7C73-4B72-9080-C74C2097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27E6-7BB4-4669-8189-2F6A91E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B5ADE-4CEA-4EF5-A1C7-DA04403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A4291-1679-46DA-AB96-51D4347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2686E-4A90-41CF-8EA6-6B0DE35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86D9F-05D6-4B92-8638-88A904AB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7E05-A606-4E3D-9D3E-D0EE0E69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624A-DA93-4CCA-AB20-B6D3EDFD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6A767-EC42-43E0-AE36-21ED3FD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7AFDC-BC91-4255-904A-AD16AFC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53D4-64F1-444B-BFE9-F7E14D61C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9F0-7E37-40C5-83EE-DA1732204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D64-5D60-4ADF-B40F-BF46CBBAF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3FE-9CF4-4FFD-A62F-2EDCB305D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DFB-6056-4A19-84C1-195F5DC5A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FD0-E759-4FCA-86E8-6911C1CF1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BC9A-21A2-45A8-86E4-7E61DE3D80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75D-0637-4D22-AA12-6ECD9041A6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1B55-7136-4709-9676-8DC718CAF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7CF-DE1E-4771-9821-5F2319B0BD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E57-D756-484B-AE22-BBE2869FE2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CBF3-75E1-48EE-89A1-7D452693D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1BF8-8E5C-4D97-95CB-606F32240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BF5E-147F-4A7D-B8E5-10259FCD6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9E6D-8D68-49BC-9006-D430D21A5F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Ukraine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6159960" y="646740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500040" y="1158840"/>
            <a:ext cx="1522440" cy="1143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"/>
          <p:cNvPicPr/>
          <p:nvPr/>
        </p:nvPicPr>
        <p:blipFill>
          <a:blip r:embed="rId3"/>
          <a:stretch/>
        </p:blipFill>
        <p:spPr>
          <a:xfrm>
            <a:off x="2571840" y="587520"/>
            <a:ext cx="1785960" cy="10159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4"/>
          <a:stretch/>
        </p:blipFill>
        <p:spPr>
          <a:xfrm>
            <a:off x="4786200" y="587520"/>
            <a:ext cx="1546200" cy="1033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5"/>
          <a:stretch/>
        </p:blipFill>
        <p:spPr>
          <a:xfrm>
            <a:off x="6715080" y="1015920"/>
            <a:ext cx="1774800" cy="1306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6"/>
          <a:stretch/>
        </p:blipFill>
        <p:spPr>
          <a:xfrm>
            <a:off x="98280" y="3300480"/>
            <a:ext cx="1830600" cy="1305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"/>
          <p:cNvPicPr/>
          <p:nvPr/>
        </p:nvPicPr>
        <p:blipFill>
          <a:blip r:embed="rId7"/>
          <a:stretch/>
        </p:blipFill>
        <p:spPr>
          <a:xfrm>
            <a:off x="285840" y="5172120"/>
            <a:ext cx="1585800" cy="1163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"/>
          <p:cNvPicPr/>
          <p:nvPr/>
        </p:nvPicPr>
        <p:blipFill>
          <a:blip r:embed="rId8"/>
          <a:stretch/>
        </p:blipFill>
        <p:spPr>
          <a:xfrm>
            <a:off x="7215120" y="3373560"/>
            <a:ext cx="1731960" cy="1290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2214720" y="2143080"/>
            <a:ext cx="587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C"/>
              </a:rPr>
              <a:t>В Украине функционируют 18,5 тыс. публичных библиотек разного уровня – областные, районные, городские, с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5"/>
          <p:cNvSpPr/>
          <p:nvPr/>
        </p:nvSpPr>
        <p:spPr>
          <a:xfrm>
            <a:off x="2071800" y="3500280"/>
            <a:ext cx="535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aramondC"/>
              </a:rPr>
              <a:t>Книжные фонды публичных библиотек Украины насчитывают свыше 330 млн. экземпля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6"/>
          <p:cNvSpPr/>
          <p:nvPr/>
        </p:nvSpPr>
        <p:spPr>
          <a:xfrm>
            <a:off x="1857240" y="4929120"/>
            <a:ext cx="624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C"/>
              </a:rPr>
              <a:t>Научно-методическое обеспечение деятельности публичных библиотек осуществляет Национальная парламентская  библиотека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5" descr="1"/>
          <p:cNvPicPr/>
          <p:nvPr/>
        </p:nvPicPr>
        <p:blipFill>
          <a:blip r:embed="rId1"/>
          <a:stretch/>
        </p:blipFill>
        <p:spPr>
          <a:xfrm>
            <a:off x="530280" y="1285920"/>
            <a:ext cx="1112760" cy="1727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843280" y="1701720"/>
            <a:ext cx="5905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GaramondC"/>
              </a:rPr>
              <a:t>Ежемесячный историко-этнографический и литературно-художественный журнал, в котором освещались вопросы истории, археологии, географии, этнографии, фольклористики и литературы Украины. Публиковались научные труды, документы и материалы, статьи, рецензии, оригинальные и переводные произведения, обзоры журналов, газет, в частности украи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GaramondC"/>
              </a:rPr>
              <a:t>Выходил в Киеве в 1882-1907 гг. В последний год – на украинском языке под названием </a:t>
            </a:r>
            <a:r>
              <a:rPr b="0" lang="uk-UA" sz="1800" spc="-1" strike="noStrike">
                <a:solidFill>
                  <a:srgbClr val="006600"/>
                </a:solidFill>
                <a:latin typeface="GaramondC"/>
              </a:rPr>
              <a:t>«Україна». </a:t>
            </a:r>
            <a:r>
              <a:rPr b="0" lang="ru-RU" sz="1800" spc="-1" strike="noStrike">
                <a:solidFill>
                  <a:srgbClr val="006600"/>
                </a:solidFill>
                <a:latin typeface="GaramondC"/>
              </a:rPr>
              <a:t>Всего вышло</a:t>
            </a:r>
            <a:r>
              <a:rPr b="0" lang="uk-UA" sz="1800" spc="-1" strike="noStrike">
                <a:solidFill>
                  <a:srgbClr val="006600"/>
                </a:solidFill>
                <a:latin typeface="GaramondC"/>
              </a:rPr>
              <a:t> 94 ном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1611720" y="404640"/>
            <a:ext cx="46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GaramondC"/>
              </a:rPr>
              <a:t>Журнал </a:t>
            </a:r>
            <a:r>
              <a:rPr b="1" lang="uk-UA" sz="2200" spc="-1" strike="noStrike">
                <a:solidFill>
                  <a:srgbClr val="cc3300"/>
                </a:solidFill>
                <a:latin typeface="GaramondC"/>
              </a:rPr>
              <a:t>«</a:t>
            </a:r>
            <a:r>
              <a:rPr b="1" lang="ru-RU" sz="2200" spc="-1" strike="noStrike">
                <a:solidFill>
                  <a:srgbClr val="cc3300"/>
                </a:solidFill>
                <a:latin typeface="GaramondC"/>
              </a:rPr>
              <a:t>КИЕВСКАЯ СТАРИНА</a:t>
            </a:r>
            <a:r>
              <a:rPr b="1" lang="uk-UA" sz="2200" spc="-1" strike="noStrike">
                <a:solidFill>
                  <a:srgbClr val="cc3300"/>
                </a:solidFill>
                <a:latin typeface="GaramondC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10" descr="40001"/>
          <p:cNvPicPr/>
          <p:nvPr/>
        </p:nvPicPr>
        <p:blipFill>
          <a:blip r:embed="rId2"/>
          <a:stretch/>
        </p:blipFill>
        <p:spPr>
          <a:xfrm>
            <a:off x="1071720" y="2428920"/>
            <a:ext cx="1118880" cy="16556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1" descr="40002"/>
          <p:cNvPicPr/>
          <p:nvPr/>
        </p:nvPicPr>
        <p:blipFill>
          <a:blip r:embed="rId3"/>
          <a:stretch/>
        </p:blipFill>
        <p:spPr>
          <a:xfrm>
            <a:off x="1571760" y="3857760"/>
            <a:ext cx="12157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4"/>
          <p:cNvSpPr/>
          <p:nvPr/>
        </p:nvSpPr>
        <p:spPr>
          <a:xfrm>
            <a:off x="6147360" y="640548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Grushevskogo 1910"/>
          <p:cNvPicPr/>
          <p:nvPr/>
        </p:nvPicPr>
        <p:blipFill>
          <a:blip r:embed="rId1"/>
          <a:stretch/>
        </p:blipFill>
        <p:spPr>
          <a:xfrm>
            <a:off x="826920" y="1247760"/>
            <a:ext cx="3097440" cy="2036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7" descr="3"/>
          <p:cNvPicPr/>
          <p:nvPr/>
        </p:nvPicPr>
        <p:blipFill>
          <a:blip r:embed="rId2"/>
          <a:stretch/>
        </p:blipFill>
        <p:spPr>
          <a:xfrm>
            <a:off x="5146560" y="1268280"/>
            <a:ext cx="3097440" cy="2041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8" descr="1"/>
          <p:cNvPicPr/>
          <p:nvPr/>
        </p:nvPicPr>
        <p:blipFill>
          <a:blip r:embed="rId3"/>
          <a:stretch/>
        </p:blipFill>
        <p:spPr>
          <a:xfrm>
            <a:off x="5292720" y="3843360"/>
            <a:ext cx="3024360" cy="23223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0" descr="2"/>
          <p:cNvPicPr/>
          <p:nvPr/>
        </p:nvPicPr>
        <p:blipFill>
          <a:blip r:embed="rId4"/>
          <a:stretch/>
        </p:blipFill>
        <p:spPr>
          <a:xfrm>
            <a:off x="826920" y="3892680"/>
            <a:ext cx="3097440" cy="227304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1"/>
          <p:cNvSpPr/>
          <p:nvPr/>
        </p:nvSpPr>
        <p:spPr>
          <a:xfrm>
            <a:off x="4246560" y="3308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К</a:t>
            </a:r>
            <a:r>
              <a:rPr b="1" lang="uk-UA" sz="1600" spc="-1" strike="noStrike">
                <a:solidFill>
                  <a:srgbClr val="cc3300"/>
                </a:solidFill>
                <a:latin typeface="GaramondC"/>
              </a:rPr>
              <a:t>і</a:t>
            </a: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евъ. – Памятникъ св. князю </a:t>
            </a:r>
            <a:r>
              <a:rPr b="1" lang="uk-UA" sz="1600" spc="-1" strike="noStrike">
                <a:solidFill>
                  <a:srgbClr val="cc3300"/>
                </a:solidFill>
                <a:latin typeface="GaramondC"/>
              </a:rPr>
              <a:t>Владиміру</a:t>
            </a:r>
            <a:r>
              <a:rPr b="1" lang="ru-RU" sz="1600" spc="-1" strike="noStrike">
                <a:solidFill>
                  <a:srgbClr val="000000"/>
                </a:solidFill>
                <a:latin typeface="Garamond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2"/>
          <p:cNvSpPr/>
          <p:nvPr/>
        </p:nvSpPr>
        <p:spPr>
          <a:xfrm>
            <a:off x="4315320" y="6116760"/>
            <a:ext cx="30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К</a:t>
            </a:r>
            <a:r>
              <a:rPr b="1" lang="uk-UA" sz="1600" spc="-1" strike="noStrike">
                <a:solidFill>
                  <a:srgbClr val="cc3300"/>
                </a:solidFill>
                <a:latin typeface="GaramondC"/>
              </a:rPr>
              <a:t>і</a:t>
            </a: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евъ. – Городской театръ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3"/>
          <p:cNvSpPr/>
          <p:nvPr/>
        </p:nvSpPr>
        <p:spPr>
          <a:xfrm>
            <a:off x="539640" y="60930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К</a:t>
            </a:r>
            <a:r>
              <a:rPr b="1" lang="uk-UA" sz="1600" spc="-1" strike="noStrike">
                <a:solidFill>
                  <a:srgbClr val="cc3300"/>
                </a:solidFill>
                <a:latin typeface="GaramondC"/>
              </a:rPr>
              <a:t>і</a:t>
            </a: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евъ. –  Крещатикъ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8"/>
          <p:cNvSpPr/>
          <p:nvPr/>
        </p:nvSpPr>
        <p:spPr>
          <a:xfrm>
            <a:off x="468360" y="40464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C"/>
              </a:rPr>
              <a:t>Коллекцию открыток с видами Киева 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GaramondC"/>
              </a:rPr>
              <a:t>Х</a:t>
            </a:r>
            <a:r>
              <a:rPr b="1" lang="uk-UA" sz="2000" spc="-1" strike="noStrike">
                <a:solidFill>
                  <a:srgbClr val="006600"/>
                </a:solidFill>
                <a:latin typeface="GaramondC"/>
              </a:rPr>
              <a:t>ІХ – начала ХХ века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1"/>
          <p:cNvSpPr/>
          <p:nvPr/>
        </p:nvSpPr>
        <p:spPr>
          <a:xfrm>
            <a:off x="261000" y="3279600"/>
            <a:ext cx="427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К</a:t>
            </a:r>
            <a:r>
              <a:rPr b="1" lang="uk-UA" sz="1600" spc="-1" strike="noStrike">
                <a:solidFill>
                  <a:srgbClr val="cc3300"/>
                </a:solidFill>
                <a:latin typeface="GaramondC"/>
              </a:rPr>
              <a:t>і</a:t>
            </a: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евъ. – Киевская россий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GaramondC"/>
              </a:rPr>
              <a:t>публичная библиотека</a:t>
            </a:r>
            <a:r>
              <a:rPr b="1" lang="ru-RU" sz="1600" spc="-1" strike="noStrike">
                <a:solidFill>
                  <a:srgbClr val="000000"/>
                </a:solidFill>
                <a:latin typeface="Garamond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DSC03515"/>
          <p:cNvPicPr/>
          <p:nvPr/>
        </p:nvPicPr>
        <p:blipFill>
          <a:blip r:embed="rId1"/>
          <a:stretch/>
        </p:blipFill>
        <p:spPr>
          <a:xfrm>
            <a:off x="5149800" y="3573360"/>
            <a:ext cx="3095640" cy="2259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P3161342_0"/>
          <p:cNvPicPr/>
          <p:nvPr/>
        </p:nvPicPr>
        <p:blipFill>
          <a:blip r:embed="rId2"/>
          <a:stretch/>
        </p:blipFill>
        <p:spPr>
          <a:xfrm>
            <a:off x="468360" y="3500280"/>
            <a:ext cx="3313080" cy="24256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DSC01573"/>
          <p:cNvPicPr/>
          <p:nvPr/>
        </p:nvPicPr>
        <p:blipFill>
          <a:blip r:embed="rId3"/>
          <a:stretch/>
        </p:blipFill>
        <p:spPr>
          <a:xfrm>
            <a:off x="5221440" y="1052640"/>
            <a:ext cx="3024000" cy="2106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7"/>
          <p:cNvSpPr/>
          <p:nvPr/>
        </p:nvSpPr>
        <p:spPr>
          <a:xfrm>
            <a:off x="6017040" y="630864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Grushevskogo 1910"/>
          <p:cNvPicPr/>
          <p:nvPr/>
        </p:nvPicPr>
        <p:blipFill>
          <a:blip r:embed="rId4"/>
          <a:stretch/>
        </p:blipFill>
        <p:spPr>
          <a:xfrm>
            <a:off x="468360" y="1125360"/>
            <a:ext cx="3024000" cy="19432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8"/>
          <p:cNvSpPr/>
          <p:nvPr/>
        </p:nvSpPr>
        <p:spPr>
          <a:xfrm>
            <a:off x="429120" y="260280"/>
            <a:ext cx="80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GaramondC"/>
              </a:rPr>
              <a:t>Национальная парламентская библиотека Украины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GaramondC"/>
              </a:rPr>
              <a:t>вчера и сегод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Line 5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3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800000"/>
                </a:solidFill>
                <a:latin typeface="Times New Roman"/>
              </a:rPr>
              <a:t>готовы к сотрудничеств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Object 2"/>
          <p:cNvGraphicFramePr/>
          <p:nvPr/>
        </p:nvGraphicFramePr>
        <p:xfrm>
          <a:off x="1206360" y="765000"/>
          <a:ext cx="6318360" cy="25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765000"/>
                    <a:ext cx="631836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Rectangle 6"/>
          <p:cNvSpPr/>
          <p:nvPr/>
        </p:nvSpPr>
        <p:spPr>
          <a:xfrm>
            <a:off x="826920" y="189000"/>
            <a:ext cx="8109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C"/>
              </a:rPr>
              <a:t>Национальная парламентская библиотека Укра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4500720" y="1268280"/>
            <a:ext cx="424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C"/>
              </a:rPr>
              <a:t>Основана  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GaramondC"/>
              </a:rPr>
              <a:t>                в 1866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84360" y="3500280"/>
            <a:ext cx="81086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Национальный центр библиографическ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Центр информационного обеспечения Верховной Рады Укра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Центр информационного обеспечения отрасли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Центр отечественного и международного книгообмена и М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Социокультурный центр по популяризации украинской и мировой книги по различным отраслям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Научно-методический и научно-исследовательский центр для публичных библиотек отрасли культуры, которых в Украине свыше 18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6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4" descr="PICT0105_0"/>
          <p:cNvPicPr/>
          <p:nvPr/>
        </p:nvPicPr>
        <p:blipFill>
          <a:blip r:embed="rId1"/>
          <a:stretch/>
        </p:blipFill>
        <p:spPr>
          <a:xfrm>
            <a:off x="285840" y="1714680"/>
            <a:ext cx="2520720" cy="189036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3203640" y="2205000"/>
            <a:ext cx="5113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66"/>
                </a:solidFill>
                <a:latin typeface="GaramondC"/>
              </a:rPr>
              <a:t>Ежегодно различными структурными подразделениями Библиотеки обслуживаются почти </a:t>
            </a:r>
            <a:r>
              <a:rPr b="1" lang="uk-UA" sz="2200" spc="-1" strike="noStrike">
                <a:solidFill>
                  <a:srgbClr val="003366"/>
                </a:solidFill>
                <a:latin typeface="GaramondC"/>
              </a:rPr>
              <a:t>90</a:t>
            </a:r>
            <a:r>
              <a:rPr b="0" lang="uk-UA" sz="2200" spc="-1" strike="noStrike">
                <a:solidFill>
                  <a:srgbClr val="003366"/>
                </a:solidFill>
                <a:latin typeface="GaramondC"/>
              </a:rPr>
              <a:t> тыс. физических 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PICT0002_0"/>
          <p:cNvPicPr/>
          <p:nvPr/>
        </p:nvPicPr>
        <p:blipFill>
          <a:blip r:embed="rId2"/>
          <a:stretch/>
        </p:blipFill>
        <p:spPr>
          <a:xfrm>
            <a:off x="3143160" y="42861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zal 1-2_0"/>
          <p:cNvPicPr/>
          <p:nvPr/>
        </p:nvPicPr>
        <p:blipFill>
          <a:blip r:embed="rId3"/>
          <a:stretch/>
        </p:blipFill>
        <p:spPr>
          <a:xfrm>
            <a:off x="3429000" y="214200"/>
            <a:ext cx="2335320" cy="1752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PICT0033_0"/>
          <p:cNvPicPr/>
          <p:nvPr/>
        </p:nvPicPr>
        <p:blipFill>
          <a:blip r:embed="rId4"/>
          <a:stretch/>
        </p:blipFill>
        <p:spPr>
          <a:xfrm>
            <a:off x="5929200" y="4286160"/>
            <a:ext cx="2335320" cy="17510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1" descr="PICT0003_0"/>
          <p:cNvPicPr/>
          <p:nvPr/>
        </p:nvPicPr>
        <p:blipFill>
          <a:blip r:embed="rId5"/>
          <a:stretch/>
        </p:blipFill>
        <p:spPr>
          <a:xfrm>
            <a:off x="500040" y="400068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Object 4"/>
          <p:cNvGraphicFramePr/>
          <p:nvPr/>
        </p:nvGraphicFramePr>
        <p:xfrm>
          <a:off x="3962520" y="2500200"/>
          <a:ext cx="5002200" cy="35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500200"/>
                    <a:ext cx="500220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Rectangle 3"/>
          <p:cNvSpPr/>
          <p:nvPr/>
        </p:nvSpPr>
        <p:spPr>
          <a:xfrm>
            <a:off x="274680" y="620640"/>
            <a:ext cx="6592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GaramondC"/>
              </a:rPr>
              <a:t>Универсальный книжный фонд Национальной парламентской библиотеки Украины насчитывает свыше </a:t>
            </a:r>
            <a:r>
              <a:rPr b="1" lang="uk-UA" sz="2000" spc="-1" strike="noStrike">
                <a:solidFill>
                  <a:srgbClr val="003366"/>
                </a:solidFill>
                <a:latin typeface="GaramondC"/>
              </a:rPr>
              <a:t>4,3 млн.</a:t>
            </a:r>
            <a:r>
              <a:rPr b="0" lang="uk-UA" sz="2000" spc="-1" strike="noStrike">
                <a:solidFill>
                  <a:srgbClr val="003366"/>
                </a:solidFill>
                <a:latin typeface="GaramondC"/>
              </a:rPr>
              <a:t> экземпляров книг, журналов, нот, комплектов газет и других документов,  более чем на </a:t>
            </a:r>
            <a:r>
              <a:rPr b="1" lang="uk-UA" sz="2000" spc="-1" strike="noStrike">
                <a:solidFill>
                  <a:srgbClr val="003366"/>
                </a:solidFill>
                <a:latin typeface="GaramondC"/>
              </a:rPr>
              <a:t>60-ти </a:t>
            </a:r>
            <a:r>
              <a:rPr b="0" lang="uk-UA" sz="2000" spc="-1" strike="noStrike">
                <a:solidFill>
                  <a:srgbClr val="003366"/>
                </a:solidFill>
                <a:latin typeface="GaramondC"/>
              </a:rPr>
              <a:t>языках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62" descr="1"/>
          <p:cNvPicPr/>
          <p:nvPr/>
        </p:nvPicPr>
        <p:blipFill>
          <a:blip r:embed="rId1"/>
          <a:stretch/>
        </p:blipFill>
        <p:spPr>
          <a:xfrm>
            <a:off x="4071960" y="1547640"/>
            <a:ext cx="4643280" cy="38959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9"/>
          <p:cNvSpPr/>
          <p:nvPr/>
        </p:nvSpPr>
        <p:spPr>
          <a:xfrm>
            <a:off x="179280" y="1389240"/>
            <a:ext cx="503424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aramondC"/>
              </a:rPr>
              <a:t>Эл</a:t>
            </a: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ектро</a:t>
            </a:r>
            <a:r>
              <a:rPr b="1" lang="ru-RU" sz="1800" spc="-1" strike="noStrike">
                <a:solidFill>
                  <a:srgbClr val="c00000"/>
                </a:solidFill>
                <a:latin typeface="GaramondC"/>
              </a:rPr>
              <a:t>нными каталог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GaramondC"/>
              </a:rPr>
              <a:t>Книжных и специальных изданий (с 199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GaramondC"/>
              </a:rPr>
              <a:t>Статей из научных сборников (с 199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C"/>
              </a:rPr>
              <a:t>Базами данн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GaramondC"/>
              </a:rPr>
              <a:t>«Политика и политики в зеркале  периодических изданий Укра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GaramondC"/>
              </a:rPr>
              <a:t>«Политематическая БД статей из периодических изд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4"/>
          <p:cNvSpPr/>
          <p:nvPr/>
        </p:nvSpPr>
        <p:spPr>
          <a:xfrm>
            <a:off x="2571840" y="4046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aramondC"/>
              </a:rPr>
              <a:t>В глобальной сети документные ресурсы  представлены :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5"/>
          <p:cNvSpPr/>
          <p:nvPr/>
        </p:nvSpPr>
        <p:spPr>
          <a:xfrm>
            <a:off x="6159960" y="628488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85840" y="1571760"/>
            <a:ext cx="828036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26496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раритеты, относящиеся к «Украинике»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"Описание Пересопницкой рукописи XVI в. с приложение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текста Евангелия от Луки, выдержек из других евангелистов"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П. Житецкого (К., 1876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"Песнь о полку Игореве, переведенная на украинское наречие М. Максимовичем" (К., 1857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"История Малой России" Д. Бантиша-Каменского (М., 1822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"Енеида на малороссийский язык перелицованная" И. Котляревского (СПб., 1798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газетный фонд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aramondC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годовые комплекты газет, начиная с 18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издания, напечатанные кириллическим шриф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"Библия" И. Федорова (Острог, 1581);                 "Маргарит" Иоанна Златоуста (Острог, 159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"Евангелие" (Вильно, 1600);                                 "Книга житий святых..." Димитрия Ростовского-Туптал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  "Патерик печерский" (Киев, 1700) и др.                (Киев, 168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коллекция украинской гражданской печати 1708-18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"Земноводного круга краткое описание..."</a:t>
            </a:r>
            <a:r>
              <a:rPr b="0" lang="en-US" sz="1200" spc="-1" strike="noStrike">
                <a:solidFill>
                  <a:srgbClr val="000000"/>
                </a:solidFill>
                <a:latin typeface="GaramondC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(Москва, 1719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 "Летопись событий в Юго-Западной России в </a:t>
            </a:r>
            <a:r>
              <a:rPr b="0" lang="en-US" sz="1200" spc="-1" strike="noStrike">
                <a:solidFill>
                  <a:srgbClr val="000000"/>
                </a:solidFill>
                <a:latin typeface="GaramondC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веке" Величко С.В. (Киев, 1851-1855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коллекция книг и периодических изданий </a:t>
            </a:r>
            <a:r>
              <a:rPr b="0" lang="en-US" sz="2000" spc="-1" strike="noStrike" u="sng">
                <a:solidFill>
                  <a:srgbClr val="336600"/>
                </a:solidFill>
                <a:uFillTx/>
                <a:latin typeface="Times New Roman"/>
              </a:rPr>
              <a:t>XIX</a:t>
            </a: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36600"/>
                </a:solidFill>
                <a:uFillTx/>
                <a:latin typeface="Times New Roman"/>
              </a:rPr>
              <a:t>-</a:t>
            </a: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 начала </a:t>
            </a:r>
            <a:r>
              <a:rPr b="0" lang="en-US" sz="2000" spc="-1" strike="noStrike" u="sng">
                <a:solidFill>
                  <a:srgbClr val="336600"/>
                </a:solidFill>
                <a:uFillTx/>
                <a:latin typeface="Times New Roman"/>
              </a:rPr>
              <a:t>XX</a:t>
            </a: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 вв.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  прижизненные собрания сочинений и отдельные труды выдающихся украинских деятелей истор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  науки и культуры: В. Винниченко, М. Грушевского, М. Драгоманова, П. Кулиша, М. Максимович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GaramondC"/>
              </a:rPr>
              <a:t>        М. Старицкого, Л. Украинки, Н. Хвылевого, И. Франко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2649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00"/>
                </a:solidFill>
                <a:uFillTx/>
                <a:latin typeface="Times New Roman"/>
              </a:rPr>
              <a:t>коллекция книг украинских репрессированных авторов 1929-1930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0" y="404640"/>
            <a:ext cx="935820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aramondC"/>
              </a:rPr>
              <a:t>      </a:t>
            </a:r>
            <a:r>
              <a:rPr b="1" lang="ru-RU" sz="2200" spc="-1" strike="noStrike">
                <a:solidFill>
                  <a:srgbClr val="cc3300"/>
                </a:solidFill>
                <a:latin typeface="GaramondC"/>
              </a:rPr>
              <a:t>Фонд старопечатных, редких и ценных изданий включ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foto6[1]"/>
          <p:cNvPicPr/>
          <p:nvPr/>
        </p:nvPicPr>
        <p:blipFill>
          <a:blip r:embed="rId1"/>
          <a:stretch/>
        </p:blipFill>
        <p:spPr>
          <a:xfrm>
            <a:off x="6858000" y="857160"/>
            <a:ext cx="200340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4"/>
          <p:cNvSpPr/>
          <p:nvPr/>
        </p:nvSpPr>
        <p:spPr>
          <a:xfrm>
            <a:off x="3500280" y="1571760"/>
            <a:ext cx="5164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2" descr=""/>
          <p:cNvPicPr/>
          <p:nvPr/>
        </p:nvPicPr>
        <p:blipFill>
          <a:blip r:embed="rId1"/>
          <a:stretch/>
        </p:blipFill>
        <p:spPr>
          <a:xfrm>
            <a:off x="5761080" y="3789360"/>
            <a:ext cx="3240000" cy="20192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PICT0045"/>
          <p:cNvPicPr/>
          <p:nvPr/>
        </p:nvPicPr>
        <p:blipFill>
          <a:blip r:embed="rId2"/>
          <a:stretch/>
        </p:blipFill>
        <p:spPr>
          <a:xfrm>
            <a:off x="252360" y="263700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396720" y="404640"/>
            <a:ext cx="7715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3300"/>
                </a:solidFill>
                <a:latin typeface="GaramondC"/>
              </a:rPr>
              <a:t>Электронная библиотека дает возможность пользователям осуществлять контекстный поиск в оцифрованных докумен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Обложка-1"/>
          <p:cNvPicPr/>
          <p:nvPr/>
        </p:nvPicPr>
        <p:blipFill>
          <a:blip r:embed="rId3"/>
          <a:stretch/>
        </p:blipFill>
        <p:spPr>
          <a:xfrm>
            <a:off x="5149800" y="2565360"/>
            <a:ext cx="1165320" cy="1644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3" descr="Тит"/>
          <p:cNvPicPr/>
          <p:nvPr/>
        </p:nvPicPr>
        <p:blipFill>
          <a:blip r:embed="rId4"/>
          <a:stretch/>
        </p:blipFill>
        <p:spPr>
          <a:xfrm>
            <a:off x="4357800" y="3141720"/>
            <a:ext cx="1127160" cy="1595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Обложка-1"/>
          <p:cNvPicPr/>
          <p:nvPr/>
        </p:nvPicPr>
        <p:blipFill>
          <a:blip r:embed="rId5"/>
          <a:stretch/>
        </p:blipFill>
        <p:spPr>
          <a:xfrm>
            <a:off x="3400560" y="3549600"/>
            <a:ext cx="1276200" cy="1800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Т ит"/>
          <p:cNvPicPr/>
          <p:nvPr/>
        </p:nvPicPr>
        <p:blipFill>
          <a:blip r:embed="rId6"/>
          <a:stretch/>
        </p:blipFill>
        <p:spPr>
          <a:xfrm>
            <a:off x="2844720" y="4365720"/>
            <a:ext cx="1227240" cy="17366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7"/>
          <p:cNvSpPr/>
          <p:nvPr/>
        </p:nvSpPr>
        <p:spPr>
          <a:xfrm>
            <a:off x="6159960" y="630864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6159960" y="630864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255240" y="630864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e2a00"/>
                </a:solidFill>
                <a:latin typeface="Times New Roman"/>
              </a:rPr>
              <a:t>http://tlibra.nplu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214280" y="500040"/>
            <a:ext cx="73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QuantAntiquaC"/>
              </a:rPr>
              <a:t>В цифрову</a:t>
            </a:r>
            <a:r>
              <a:rPr b="1" lang="ru-RU" sz="2000" spc="-1" strike="noStrike">
                <a:solidFill>
                  <a:srgbClr val="cc3300"/>
                </a:solidFill>
                <a:latin typeface="QuantAntiquaC"/>
              </a:rPr>
              <a:t>ю</a:t>
            </a:r>
            <a:r>
              <a:rPr b="1" lang="uk-UA" sz="2000" spc="-1" strike="noStrike">
                <a:solidFill>
                  <a:srgbClr val="cc3300"/>
                </a:solidFill>
                <a:latin typeface="QuantAntiquaC"/>
              </a:rPr>
              <a:t> форму к 200-летнему юбилею переведены </a:t>
            </a:r>
            <a:r>
              <a:rPr b="1" lang="ru-RU" sz="2000" spc="-1" strike="noStrike">
                <a:solidFill>
                  <a:srgbClr val="cc3300"/>
                </a:solidFill>
                <a:latin typeface="QuantAntiquaC"/>
              </a:rPr>
              <a:t>первые и прижизненные </a:t>
            </a:r>
            <a:r>
              <a:rPr b="1" lang="uk-UA" sz="2000" spc="-1" strike="noStrike">
                <a:solidFill>
                  <a:srgbClr val="cc3300"/>
                </a:solidFill>
                <a:latin typeface="QuantAntiquaC"/>
              </a:rPr>
              <a:t>издания  Н. В. Гог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3"/>
          <p:cNvPicPr/>
          <p:nvPr/>
        </p:nvPicPr>
        <p:blipFill>
          <a:blip r:embed="rId1"/>
          <a:stretch/>
        </p:blipFill>
        <p:spPr>
          <a:xfrm>
            <a:off x="1179360" y="1428840"/>
            <a:ext cx="653580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page_9"/>
          <p:cNvPicPr/>
          <p:nvPr/>
        </p:nvPicPr>
        <p:blipFill>
          <a:blip r:embed="rId1"/>
          <a:stretch/>
        </p:blipFill>
        <p:spPr>
          <a:xfrm>
            <a:off x="395280" y="1714680"/>
            <a:ext cx="1100160" cy="1584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page_5"/>
          <p:cNvPicPr/>
          <p:nvPr/>
        </p:nvPicPr>
        <p:blipFill>
          <a:blip r:embed="rId2"/>
          <a:stretch/>
        </p:blipFill>
        <p:spPr>
          <a:xfrm>
            <a:off x="600120" y="4343400"/>
            <a:ext cx="1092240" cy="1657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"/>
          <p:cNvSpPr/>
          <p:nvPr/>
        </p:nvSpPr>
        <p:spPr>
          <a:xfrm>
            <a:off x="692280" y="404640"/>
            <a:ext cx="795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C"/>
              </a:rPr>
              <a:t>На первом этапе сотрудничеств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GaramondC"/>
              </a:rPr>
              <a:t>Национальная парламентская  библиотека Украины предлагает  включить  в коллекцию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GaramondC"/>
              </a:rPr>
              <a:t>Мировой электронной  библиотек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71680" y="1913040"/>
            <a:ext cx="83642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QuantAntiquaC"/>
              </a:rPr>
              <a:t>Оцифрованные прижизненные и первые изд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QuantAntiquaC"/>
              </a:rPr>
              <a:t>Н. В. Гого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GaramondC"/>
              </a:rPr>
              <a:t>  </a:t>
            </a:r>
            <a:r>
              <a:rPr b="0" i="1" lang="ru-RU" sz="1800" spc="-1" strike="noStrike">
                <a:solidFill>
                  <a:srgbClr val="cc3300"/>
                </a:solidFill>
                <a:latin typeface="GaramondC"/>
              </a:rPr>
              <a:t>Гоголь Н.В.</a:t>
            </a:r>
            <a:r>
              <a:rPr b="0" lang="ru-RU" sz="1800" spc="-1" strike="noStrike">
                <a:solidFill>
                  <a:srgbClr val="cc3300"/>
                </a:solidFill>
                <a:latin typeface="GaramondC"/>
              </a:rPr>
              <a:t> Сочинения Николая Гоголя : в 4 т. Т.1. Вечера на хуторе близ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GaramondC"/>
              </a:rPr>
              <a:t>  Диканьки : повести, изданные пасечником Рудым Паньком . – СПб. : в тип.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GaramondC"/>
              </a:rPr>
              <a:t>  А. Бородина и К, 1842 . – XVIII, 186, VIII, 259, [1] 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Garamond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GaramondC"/>
              </a:rPr>
              <a:t>   </a:t>
            </a:r>
            <a:r>
              <a:rPr b="0" i="1" lang="ru-RU" sz="1800" spc="-1" strike="noStrike">
                <a:solidFill>
                  <a:srgbClr val="cc3300"/>
                </a:solidFill>
                <a:latin typeface="GaramondC"/>
              </a:rPr>
              <a:t>Гоголь Н.В.</a:t>
            </a:r>
            <a:r>
              <a:rPr b="0" lang="ru-RU" sz="1800" spc="-1" strike="noStrike">
                <a:solidFill>
                  <a:srgbClr val="cc3300"/>
                </a:solidFill>
                <a:latin typeface="GaramondC"/>
              </a:rPr>
              <a:t> Сочинения Николая Гоголя : в 4 т. Т.2. Миргород. – СПб. : в 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GaramondC"/>
              </a:rPr>
              <a:t>   тип. А. Бородина и К, 1842 . – X1-483, [484-486], [1]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GaramondC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5951880" y="609300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www.nplu.org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nplu.kie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1:13:39Z</dcterms:created>
  <dc:creator>COMP</dc:creator>
  <dc:description/>
  <dc:language>en-US</dc:language>
  <cp:lastModifiedBy>pc1</cp:lastModifiedBy>
  <dcterms:modified xsi:type="dcterms:W3CDTF">2010-06-18T09:40:37Z</dcterms:modified>
  <cp:revision>471</cp:revision>
  <dc:subject/>
  <dc:title>Слайд 1</dc:title>
</cp:coreProperties>
</file>