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2F3-17E6-4508-87F5-1D59F678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AA4-3232-4797-ADFB-84D5959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D3C-6491-43DF-A716-271E8892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F1D-557E-4960-8BC1-DB19A93B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E45-884E-4345-AB81-44161920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14A-AB95-47C4-9198-D1BE6B06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FBE-5847-4A83-91CA-0B21284E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B14-4EF4-4013-BF9B-BF170765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577-3960-4A4C-8090-DDE66DD5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0F2-A761-4A70-9A19-2ADCFE9E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E93-40C3-44DB-9338-8F75C2A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4C3-79A8-4242-846E-07290A5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A729-0163-4D23-BF34-B9D647E5E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0570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6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orld Digital Library Partne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Munich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November 14-15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ontent Priorities and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John Van Ouden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WDL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685800"/>
          <a:ext cx="325116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325116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ent Priorities and Sele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7432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WDL Content Selec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Content Selection Working Group, Cairo, Egypt, January 13-15, 20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General, high-level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for the study of human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s relating to national histories and cultures but also relating to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 attention to Memory of the World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y of designated high-profile themes, e.g., “history of wri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ent Priorities and Sele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7432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Some unresolved issues needing further discu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o do about 3-D i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o do about archival coll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klore and intangible heri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Possibility of regional and/or functional groups to supplement work of general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Arabic Scientific Manuscripts Committe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7432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Sponsored by King Abdullah University of Science and Technology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eetings in London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ment of scholars and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Additional impetus from the Qatar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Arabic Scientific Manuscripts Committe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7432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Focus on two aspects: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and capacity building, e.g., National Library and Archives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treasure” manuscripts mainly in Europe, Turkey, to some extent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Potential areas of emphasis identified: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y the astronomer al-Sufi (903-98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ic maps and cartograp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scripts about machines and mechanical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hinese Language Committe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7432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-chaired by National Library of China and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Meeting in Washington, Januar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hinese Language Committe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7432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Areas of focus identified: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al materials and architectural designs relating to the Garden of Perfect Brightness (destroyed in the European interventions of 1860 and the Boxer uprising of 190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s printed during the Taiping Kingdom (1851-18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s on astronomy and div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1900 Chinese ma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books from the Song Dynasty (960-127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uit publications from the 16th and 17th centu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g Dynasty (1368-1644) block-printed works with illu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Need to involve other Asian, U.S., and European libraries (some already contributing Chinese co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Mesoamerican Codices Committe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ld Digital Librar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wdl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7432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Meeting in Mexico City, May 2009, hosted by CONACULTA and Library of Congress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Identified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significant Mesoamerican codice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and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mmissioned overview paper by Professor Karl Taube, University of California at River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0:49:12Z</dcterms:created>
  <dc:creator>Jessica Holt Ludwig</dc:creator>
  <dc:description/>
  <dc:language>en-US</dc:language>
  <cp:lastModifiedBy>lcuser</cp:lastModifiedBy>
  <dcterms:modified xsi:type="dcterms:W3CDTF">2011-11-15T09:56:14Z</dcterms:modified>
  <cp:revision>201</cp:revision>
  <dc:subject/>
  <dc:title>Slide 1</dc:title>
</cp:coreProperties>
</file>