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28DEE-787F-4ACE-B99F-BD9A0559E8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no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40383-1BA5-4F02-A365-BFCB757D2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91232-C82D-4366-855F-3A27E3732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09DB4-4113-4EB1-A90E-D5C7A8667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172-1C57-4867-AAF0-C2F9698B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58B-26EF-45DA-9F14-F4B452BE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254-6879-4A3A-B81B-0FF6028B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A2A-0C6B-4997-86A2-ADABE0EF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AF7-AF47-4D16-8E21-6856BFBB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5F4-7827-4A6A-8D9B-A5109FE9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4AF-E513-4225-B886-DEFA6AC8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3E6-0D0A-44C6-AAD2-735EF362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633-C202-4ACE-AEE3-5CCF1CC7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171-8CE7-4181-BF54-2583EEB8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4F3-2EED-4940-990D-88478BA5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9F5-81CE-4D3F-8319-D1F67AF5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no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D9EFB-5AE2-4BCA-A3AD-EC01E289E9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C6CCD-4673-415E-8F40-B439CD8B4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"/>
              </a:rPr>
              <a:t>Saint John’s Universi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"/>
              </a:rPr>
              <a:t>Collegeville, Minneso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9" name="Picture 3" descr="HM&amp;ML1a copy.jpg"/>
          <p:cNvPicPr/>
          <p:nvPr/>
        </p:nvPicPr>
        <p:blipFill>
          <a:blip r:embed="rId1"/>
          <a:stretch/>
        </p:blipFill>
        <p:spPr>
          <a:xfrm>
            <a:off x="228600" y="2319480"/>
            <a:ext cx="8686800" cy="3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FMM00037_005r OP.jpg"/>
          <p:cNvPicPr/>
          <p:nvPr/>
        </p:nvPicPr>
        <p:blipFill>
          <a:blip r:embed="rId1"/>
          <a:stretch/>
        </p:blipFill>
        <p:spPr>
          <a:xfrm>
            <a:off x="2151000" y="0"/>
            <a:ext cx="48592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Abduahi-shrine guy-ma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no"/>
              </a:rPr>
              <a:t>How It Works</a:t>
            </a: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17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MML provides equipment, training, and payment for local technician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MML coordinates cataloging if neede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MML provides long-term digital archiving, data migration, and replacement im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wners keep copies of all images and retain publication and commercial right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MML may display metadata and sample images, and provide secured access to complete manuscripts for researcher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hmml.org.tiff"/>
          <p:cNvPicPr/>
          <p:nvPr/>
        </p:nvPicPr>
        <p:blipFill>
          <a:blip r:embed="rId1"/>
          <a:stretch/>
        </p:blipFill>
        <p:spPr>
          <a:xfrm>
            <a:off x="779400" y="119160"/>
            <a:ext cx="748368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no"/>
              </a:rPr>
              <a:t>HMML’s Digital Archive</a:t>
            </a:r>
            <a:r>
              <a:rPr b="0" lang="en-US" sz="4400" spc="-1" strike="noStrike">
                <a:solidFill>
                  <a:srgbClr val="ff0000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30,000 mss digitally imaged since 2003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5000 mss imaged in 2011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=ca. 6,000,000 unique digital image files in RAW and JPEG format; 86 TB in RAW + 26 TB in JPEG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complete back-up, archiving, and data refreshment program 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Arcadia-logo.tiff"/>
          <p:cNvPicPr/>
          <p:nvPr/>
        </p:nvPicPr>
        <p:blipFill>
          <a:blip r:embed="rId1"/>
          <a:stretch/>
        </p:blipFill>
        <p:spPr>
          <a:xfrm>
            <a:off x="2743200" y="685800"/>
            <a:ext cx="3238560" cy="105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Mellon-logo.tiff"/>
          <p:cNvPicPr/>
          <p:nvPr/>
        </p:nvPicPr>
        <p:blipFill>
          <a:blip r:embed="rId2"/>
          <a:stretch/>
        </p:blipFill>
        <p:spPr>
          <a:xfrm>
            <a:off x="380880" y="2508120"/>
            <a:ext cx="7858080" cy="114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NEH-logo.tiff"/>
          <p:cNvPicPr/>
          <p:nvPr/>
        </p:nvPicPr>
        <p:blipFill>
          <a:blip r:embed="rId3"/>
          <a:stretch/>
        </p:blipFill>
        <p:spPr>
          <a:xfrm>
            <a:off x="0" y="4724280"/>
            <a:ext cx="914400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ustria-Oliver.jpg"/>
          <p:cNvPicPr/>
          <p:nvPr/>
        </p:nvPicPr>
        <p:blipFill>
          <a:blip r:embed="rId1"/>
          <a:stretch/>
        </p:blipFill>
        <p:spPr>
          <a:xfrm>
            <a:off x="0" y="152280"/>
            <a:ext cx="95709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EMML 7014-f. 83.jp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Schoyen-MS1748.tiff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Balamand-Worm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whole thing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no"/>
              </a:rPr>
              <a:t>Current Projects</a:t>
            </a:r>
            <a:endParaRPr b="0" lang="en-US" sz="4400" spc="-1" strike="noStrike">
              <a:solidFill>
                <a:srgbClr val="ff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ompleted since 2003: 30+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ctive 2011-12: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Lebanon: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3     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Malta: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yria: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Rome: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urkey: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dia: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rusalem: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thiopia: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90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raq: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TOTAL:  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Walid training crew.jpg"/>
          <p:cNvPicPr/>
          <p:nvPr/>
        </p:nvPicPr>
        <p:blipFill>
          <a:blip r:embed="rId1"/>
          <a:stretch/>
        </p:blipFill>
        <p:spPr>
          <a:xfrm>
            <a:off x="5400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IES-training.jpg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22:15:52Z</dcterms:created>
  <dc:creator>Columba Stewart</dc:creator>
  <dc:description/>
  <dc:language>en-US</dc:language>
  <cp:lastModifiedBy>Columba Stewart</cp:lastModifiedBy>
  <cp:lastPrinted>2011-11-10T17:35:02Z</cp:lastPrinted>
  <dcterms:modified xsi:type="dcterms:W3CDTF">2011-11-10T23:49:40Z</dcterms:modified>
  <cp:revision>7</cp:revision>
  <dc:subject/>
  <dc:title>Slide 1</dc:title>
</cp:coreProperties>
</file>