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0B9A5-FFE4-4555-9ACD-7E481DAAAE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02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20600"/>
            <a:ext cx="822024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03A6F-BA63-439D-81D4-7ACFE62A38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02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20600"/>
            <a:ext cx="40111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200" y="3720600"/>
            <a:ext cx="40111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AB14F-EB48-4BD6-B48C-97B1877359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02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20600"/>
            <a:ext cx="26467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6760" y="3720600"/>
            <a:ext cx="26467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960" y="3720600"/>
            <a:ext cx="26467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29719-BBF5-4A1A-9B78-15946D94D6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32941-B7D0-4517-A69D-158F0F3A7C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02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5C492-D3C7-47AC-A676-41B46AAB11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02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AB4A1-16B9-45BF-AE24-FBEF3D27E2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02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CFA12-C5D2-425B-9CF5-78597FE6E6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02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2C3DC-868E-4AD6-8702-A47192DE24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685800"/>
            <a:ext cx="822024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B8EAF-F4C9-4998-B47A-CCE9F59972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02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20600"/>
            <a:ext cx="40111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B68EE-BAFB-4271-8091-5683638186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02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93D31-F673-4D6F-A1F5-1DB06E4F5A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02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9200" y="3720600"/>
            <a:ext cx="40111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F2FD7-E86A-496F-8214-20ADDDC84E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02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20600"/>
            <a:ext cx="822024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D7943-4B8D-4ECA-BA91-D6896E124A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02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720600"/>
            <a:ext cx="822024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B32FB-D86D-4820-B6D3-1A6B2F0D8E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02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20600"/>
            <a:ext cx="40111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9200" y="3720600"/>
            <a:ext cx="40111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9C143-8040-4E34-A2DD-FAEA341D7B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02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720600"/>
            <a:ext cx="26467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6760" y="3720600"/>
            <a:ext cx="26467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5960" y="3720600"/>
            <a:ext cx="26467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51285-01F0-482B-BD22-5E4770096D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02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BAD1A-FC78-4725-8EDF-719013F7F8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02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CE997-5321-49C4-A741-855BFE9023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02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966F1-4DCD-43D9-AFD7-F3CE4353C0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685800"/>
            <a:ext cx="822024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95FDE-B7B7-4544-99EE-2CF4801384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02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20600"/>
            <a:ext cx="40111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4F7D1-9E70-4A9D-9FA7-B69892B22E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02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200" y="3720600"/>
            <a:ext cx="40111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7E7DB-C7DB-4EA9-AE8A-13C760CC75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02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20600"/>
            <a:ext cx="822024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F4AC8-CC44-4471-854E-FB03919BB7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02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33360" indent="-3333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3360" indent="-33336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333360" indent="-3333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33360" indent="-33336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333360" indent="-33336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333360" indent="-33336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94F691-00DD-4576-B08F-D565E1D85B3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457200" y="274680"/>
            <a:ext cx="82296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Line 5"/>
          <p:cNvSpPr/>
          <p:nvPr/>
        </p:nvSpPr>
        <p:spPr>
          <a:xfrm>
            <a:off x="533520" y="0"/>
            <a:ext cx="144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380880" y="9036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World Digital Library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www.wdl.org</a:t>
            </a: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 flipH="1">
            <a:off x="6248520" y="76320"/>
            <a:ext cx="274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SI  |  WEB SERVICE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02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33360" indent="-3333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3360" indent="-333360">
              <a:spcBef>
                <a:spcPts val="3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333360" indent="-3333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33360" indent="-33336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333360" indent="-33336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333360" indent="-33336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D5EE57-5E36-40E5-A27E-16345843816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457200" y="274680"/>
            <a:ext cx="82296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533520" y="0"/>
            <a:ext cx="144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380880" y="9036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World Digital Library  www.wdl.org</a:t>
            </a: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 flipH="1">
            <a:off x="6248520" y="76320"/>
            <a:ext cx="274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SI  |  WEB SERVICE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28240" y="2819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3280"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WDL Partner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280"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Production Proces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280"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Munich, 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280"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November 14-15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280"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280" indent="0" algn="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son Yas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280" indent="0" algn="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DL Operations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280" indent="0" algn="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yas@loc.g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28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457200" y="0"/>
            <a:ext cx="19810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685800"/>
          <a:ext cx="325116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85800"/>
                    <a:ext cx="325116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02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Translation and Language Management</a:t>
            </a:r>
            <a:endParaRPr b="0" lang="en-US" sz="32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024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guistic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translation vendors who share our six languages (FR, ES, PT, AR, RU, Z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reviewer per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l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translation when content is submitted to us in a language other than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ion into six languages, using translation management systems such as CA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-context review and quality control on our staging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ology and style management (glossaries and style guid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 management (direct access to content writers and subject matter exper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dback loop management between subject matter experts, translators and revie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orld Digital Library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wdl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02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Development Process</a:t>
            </a:r>
            <a:endParaRPr b="0" lang="en-US" sz="32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57200" y="1676520"/>
            <a:ext cx="822024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going supportive role of entire productio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going maintenance and scaling of web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tools for content and metadata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ubleshoo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orld Digital Library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wdl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20" y="1600200"/>
            <a:ext cx="838188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" indent="-333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anuary 2011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,350 items on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rising 98,278 imag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vember 14, 2011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4,049 items on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rising approx. 212,000 im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00% increase since January 1, 201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d of 2011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xpected approx. 4,600 items on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ditional 600-700 items scheduled for relea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rly 2012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xpected approx. 6,000 items on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tisfy medium-term goal in WDL Business Pl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44% increase since January 1,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7912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Accomplishments and Improvements in 20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orld Digital Library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wdl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1295280"/>
            <a:ext cx="8381880" cy="51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" indent="-333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ffing and Organ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dicated Operations Manager to oversee entire proces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dicated leads for each of the five teams (Content, Description,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data, Translation, and Developme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Metadata Management 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e-named “Cupcake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roved metadata creation and mainten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rrently, also supports Translation and Quality Review proce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DL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haul of code for better management and optim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o the cloud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ter user experience worldwi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ous Process Improve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anagement, standards and best pract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iciency, reliability, and timeli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60876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Accomplishments and Improvements in 20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orld Digital Library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wdl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4920" y="1447920"/>
            <a:ext cx="83818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" indent="-333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 Partner Collabo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able more Self-Service via online tools 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rease online content transf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ck transfers with inventory integ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rove content processing and valid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 Partner access and review of descriptions, metadata,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t more people in the process where nee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rove Detailed Standards and Guide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project.wdl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 guidelines (digitization, file-naming, object structur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data guidelines (mapping from MARC, MODS, Dublin Cor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rove Integration with Authority F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data controlled vocabularies, authority fi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ion controlled vocabularies, authority fi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7912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Next Priorities for WD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orld Digital Library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wdl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4920" y="1523880"/>
            <a:ext cx="8839080" cy="49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rove User Interface (UI) and User Experience (U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DL 2 is a starting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cher user interface and experi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-Text Search (F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hanced Web 2.0 Sharing feat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y Bui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inue support of digitization centers in Egypt, Uganda, and Ira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meetings and training worksho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rst workshop scheduled in Doha, Qatar, in February 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ous Process Impr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anagement, standards and best pract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rease efficiency, predictability, reliability, and timeliness of production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76104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Next Priorities for WD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orld Digital Library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wdl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02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3366cc"/>
                </a:solidFill>
                <a:latin typeface="Arial"/>
              </a:rPr>
              <a:t>Questions?</a:t>
            </a:r>
            <a:endParaRPr b="0" lang="en-US" sz="8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4038120"/>
            <a:ext cx="822024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son Yas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DL Operations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yas@loc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orld Digital Library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wdl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7238880" y="6033960"/>
          <a:ext cx="1727280" cy="6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6033960"/>
                    <a:ext cx="172728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76212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300"/>
              </a:spcBef>
              <a:buClr>
                <a:srgbClr val="808080"/>
              </a:buClr>
              <a:buSzPct val="95000"/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ef Overview of WDL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95000"/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Level Production Work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95000"/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L Production Workflow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300"/>
              </a:spcBef>
              <a:buClr>
                <a:srgbClr val="808080"/>
              </a:buClr>
              <a:buSzPct val="95000"/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view of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95000"/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95000"/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95000"/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95000"/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95000"/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300"/>
              </a:spcBef>
              <a:buClr>
                <a:srgbClr val="808080"/>
              </a:buClr>
              <a:buSzPct val="95000"/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mplishments and Improvements i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300"/>
              </a:spcBef>
              <a:buClr>
                <a:srgbClr val="808080"/>
              </a:buClr>
              <a:buSzPct val="95000"/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Priorities for W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orld Digital Library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wdl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380880" y="121932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3360" indent="-33336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625680"/>
            <a:ext cx="800100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High-Level Production Work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b2b2b2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S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b2b2b2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b2b2b2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Proces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b2b2b2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aloging (consistent metadata, descript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b2b2b2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b2b2b2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s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orld Digital Library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wdl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6645240" cy="63248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1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orld Digital Library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wdl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3520" y="1231920"/>
            <a:ext cx="7848360" cy="55497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024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WDL 2 Workflow</a:t>
            </a:r>
            <a:endParaRPr b="0" lang="en-US" sz="32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orld Digital Library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wdl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024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ontent Workflow: Transfer</a:t>
            </a:r>
            <a:endParaRPr b="0" lang="en-US" sz="32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024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 to “landing zone”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ware &amp; virus sc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g &amp; ta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 to tape back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 to “work zone”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86200"/>
            <a:ext cx="806760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" indent="-333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ncile records &amp; me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sory vetting for obvious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ssing media f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ssing data files/reco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rruption iss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aloging/Translation derivat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r kit prep - item level trac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to catalog or pre-trans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82202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ontent Workflow: Tri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orld Digital Library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wdl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676440"/>
            <a:ext cx="82202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ontent Workflow: Object Building</a:t>
            </a:r>
            <a:endParaRPr b="0" lang="en-US" sz="32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024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26520" indent="-326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326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 adjustments as needed (cropping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326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 management/sRGB 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326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master reference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326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8560" indent="-270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L directory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8560" indent="-270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image header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8560" indent="-270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le reg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8560" indent="-270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 image deriv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8560" indent="-270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4276800"/>
            <a:ext cx="82202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ontent Workflow: Vali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4876920"/>
            <a:ext cx="8220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76480" indent="-276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script that checks for missing parts &amp; server permissions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6480" indent="-276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media validation (JHOVE based too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6480" indent="-276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items to dev team server 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6480" indent="-276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inventory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orld Digital Library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wdl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02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Description Process</a:t>
            </a:r>
            <a:endParaRPr b="0" lang="en-US" sz="32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0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19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DL Description t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9680" indent="-31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ors, scholars, researchers, and other field exp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9680" indent="-31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or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9680" indent="-31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 Coord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9680" indent="-31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ner Revie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9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9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9680" indent="-31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produce a summary that explains each item and highlights its signific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9680" indent="-31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lluminate the material in a way that is accurate, succinct, and engaging, working with information provided by partners, subject specialists, and other authoritative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9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9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9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e-descrip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termine and execute the appropriate course of action for the writing and editing processes, i.e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264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improve existing descriptions provided by partn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264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npoint the appropriate expert to write descriptions, if they are not provi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9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upplement pre-existing descriptions or produce original 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9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diti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ubstantive edit and copy-e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9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artner Review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aluation of WDL-edited descriptions by partner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9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inalizi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inal approval before description is sent to Metadata t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orld Digital Library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wdl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02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Metadata Process</a:t>
            </a:r>
            <a:endParaRPr b="0" lang="en-US" sz="32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200240"/>
            <a:ext cx="8305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riginal metadata cre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dit English title, read and check the 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ind or verify names in VIA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rify publication date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anguage used in the mate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Verify place names in TG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ign appropriate topics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itional su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ean “Notes” and “Physical Description”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collection title if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etadata re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each field to make sure there are no err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Verify the names, DDC, and subjects, etc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tch metadata cre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ze metadata to develop strategy and workf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metadata mapping and decide outpu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or/and verify generic information, names, places, DDC,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jects, etc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 and create macros and scrip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 metadata in batch using various too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inal review of the metadata in Metadata Management 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orld Digital Library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wdl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16:50:59Z</dcterms:created>
  <dc:creator>jyas</dc:creator>
  <dc:description/>
  <dc:language>en-US</dc:language>
  <cp:lastModifiedBy>marh</cp:lastModifiedBy>
  <dcterms:modified xsi:type="dcterms:W3CDTF">2011-11-10T22:02:10Z</dcterms:modified>
  <cp:revision>450</cp:revision>
  <dc:subject/>
  <dc:title>Qatar Foundation Visit</dc:title>
</cp:coreProperties>
</file>