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9FE9-732E-43C3-B098-1CB700E6B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8FE1-7229-4470-BB28-9897A5D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4575-40B1-4709-8F36-2B42C73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FAD3-9836-4489-92AB-428E327FF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28B4-53CE-4ABD-8BE5-2E4192B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8890-8619-475C-BA82-74FE628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8799-4164-414C-BEAD-EF7F2EF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6482-0276-43BA-B7CB-7F35CF54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D83B-3796-47B7-8B27-4313D8F9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C3E8-2FAC-4B5B-B0B9-A833335B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B2D7-DB0E-46F3-8A8C-97788F9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6290-8D46-426E-8CCD-64D5CCA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685DE-59E6-43CD-AAC8-AF24B316BA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af.org/" TargetMode="External"/><Relationship Id="rId2" Type="http://schemas.openxmlformats.org/officeDocument/2006/relationships/hyperlink" Target="http://viaf.org/" TargetMode="External"/><Relationship Id="rId3" Type="http://schemas.openxmlformats.org/officeDocument/2006/relationships/hyperlink" Target="http://viaf.org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0160" y="2755800"/>
            <a:ext cx="3251160" cy="128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45800" y="38671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 Black"/>
              </a:rPr>
              <a:t>www.wd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ave the Pixels, Go Lossles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PEG is lo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f you must use JPEGS, save at highest qu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ZW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 JPEG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k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heck for Miss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2220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76320"/>
            <a:ext cx="82202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le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CII characters, preferabl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se matters (my_file vs. My_file vs. my_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Three-letter file extensions (.tif NOT .ti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 not use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pace “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ading zeroes (0001.tif, 0002.tif…0010.tif not 1.tif, 2.tif…10.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7160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le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ecksums (md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sktop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gIt Library (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and line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1854360"/>
            <a:ext cx="5083200" cy="37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igital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nect your media to your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standards have a place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RC: 856 $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ublin Core: &lt;identifi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DS: &lt;identifier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DL Spreadsheet: image_directory/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31520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n't us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f you must use them, send us a glossary defining the abbrev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ur translators are not libr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ery time-consuming to track down what abbreviations mean in non-English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ame Authorit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 us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rtual International Authority Fil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http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//viaf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reator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ork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uthor’s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+ 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lease include 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19320"/>
            <a:ext cx="6248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hysical M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D/DVD (prone to errors &amp; corru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rd Drive (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et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 FTP/HTTP from you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 deliver to our new S3 drop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1915920" cy="33912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49000"/>
              </a:srgbClr>
            </a:outerShdw>
          </a:effectLst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371600"/>
            <a:ext cx="6781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ntact 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e'll send you S3 log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You uploa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e download to our landing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2209680"/>
            <a:ext cx="0" cy="28195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467480" y="1600200"/>
            <a:ext cx="0" cy="2743200"/>
          </a:xfrm>
          <a:prstGeom prst="line">
            <a:avLst/>
          </a:prstGeom>
          <a:ln w="572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37000"/>
            <a:ext cx="8381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andy Bo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ntent Manager, World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ibrary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Franklin Gothic Medium"/>
              </a:rPr>
              <a:t>sbos@loc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nlimited space for up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box isn't shared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3 protocol vs.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451240" cy="2730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162920" y="2133720"/>
            <a:ext cx="1282680" cy="1168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ook for documentation of the new transfer process and tools soon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i="1" lang="en-US" sz="8000" spc="-1" strike="noStrike">
                <a:solidFill>
                  <a:srgbClr val="558ed6"/>
                </a:solidFill>
                <a:latin typeface="Arial"/>
                <a:ea typeface="Arial Unicode MS"/>
              </a:rPr>
              <a:t>project.wdl.org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40160" y="2755800"/>
            <a:ext cx="3251160" cy="1282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745800" y="38671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 Black"/>
              </a:rPr>
              <a:t>www.wd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3880"/>
            <a:ext cx="84582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5584d5"/>
                </a:solidFill>
                <a:latin typeface="Arial"/>
                <a:ea typeface="Arial Unicode MS"/>
              </a:rPr>
              <a:t>WDL Partner Me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“</a:t>
            </a: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Preparing Your Conten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Washington,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December 5,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355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8000" spc="-1" strike="noStrike">
                <a:solidFill>
                  <a:srgbClr val="0084d1"/>
                </a:solidFill>
                <a:latin typeface="Arial"/>
              </a:rPr>
              <a:t>project.wdl.or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371600"/>
            <a:ext cx="85345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hy does quality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images are what people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ep Zoom shows f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ut your best foot forwar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metadata runs the dis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a digital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dia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06600" y="23875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3360" indent="-331920">
              <a:spcBef>
                <a:spcPts val="300"/>
              </a:spcBef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Par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971440" y="2437920"/>
            <a:ext cx="3352680" cy="304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71200" y="42354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3360" indent="-331920">
              <a:spcBef>
                <a:spcPts val="300"/>
              </a:spcBef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7560" y="4266720"/>
            <a:ext cx="312552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70000" y="2743200"/>
            <a:ext cx="3354120" cy="6094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1400" y="4648320"/>
            <a:ext cx="3811320" cy="51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822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l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 don't have the originals, you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 a color reference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743200" cy="196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160800" cy="27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63520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ep Zoom shows f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00 pixels per inch (ppi) or 118 pixels per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00 ppi resolution is at 10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f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1 x 8 book should be 3300 pixels x 240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ust because it says 300 in Photoshop doesn't mean it's 300 at origin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171960" cy="429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158112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6200000">
            <a:off x="-1710000" y="3157920"/>
            <a:ext cx="44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~~~~~~~~~~~ 3400 ~~~~~~~~~~~~~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604760" y="3013560"/>
            <a:ext cx="22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~~~~ 1700 ~~~~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62280" y="133812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pixels per inch in 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76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62160" y="16765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7640" y="57578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6520" y="4495320"/>
            <a:ext cx="33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ffectively 200 pixels per i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18:05Z</dcterms:created>
  <dc:creator>mpr</dc:creator>
  <dc:description/>
  <dc:language>en-US</dc:language>
  <cp:lastModifiedBy>Library of Congress Library of Congress</cp:lastModifiedBy>
  <cp:lastPrinted>2009-04-22T19:24:48Z</cp:lastPrinted>
  <dcterms:modified xsi:type="dcterms:W3CDTF">2013-03-20T16:02:21Z</dcterms:modified>
  <cp:revision>277</cp:revision>
  <dc:subject/>
  <dc:title>PowerPoint Presentation</dc:title>
</cp:coreProperties>
</file>