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B97F-B8B8-4256-BC14-392CC5038D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504A-AE56-47BE-B2E5-2AF652FD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5471-6F69-4C0F-95DB-18A36BB5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AD6E0-3D81-4DAB-BDDE-7C1F37299B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CA33-6C58-4F72-9BD4-9ED1FDDF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C326-1621-43B7-8A9D-47A034BD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3A77-D0BD-42DD-B72D-FDEF0A5B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C3FF-8B4A-4D2D-98B6-15F466E8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28A99-528C-4917-A6CE-C2A5DAE8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D5EC-992F-4288-8229-0A2026C2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63CC-2F02-43B3-9CA1-C9459457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544D-A73A-4199-A1AE-8C405307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51E5C6-A09C-4DC6-B6DF-C84B442AA5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viaf.org/" TargetMode="External"/><Relationship Id="rId2" Type="http://schemas.openxmlformats.org/officeDocument/2006/relationships/hyperlink" Target="http://viaf.org/" TargetMode="External"/><Relationship Id="rId3" Type="http://schemas.openxmlformats.org/officeDocument/2006/relationships/hyperlink" Target="http://viaf.org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0160" y="2755800"/>
            <a:ext cx="3251160" cy="128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45800" y="386712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 Black"/>
              </a:rPr>
              <a:t>www.wdl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ave the Pixels, Go Lossles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JPEG is lo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f you must use JPEGS, save at highest qua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ZW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o JPEG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k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r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heck for Miss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22220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976320"/>
            <a:ext cx="822024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Filen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SCII characters, preferabl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se matters (my_file vs. My_file vs. my_F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Three-letter file extensions (.tif NOT .ti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o not use these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"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Space “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Leading zeroes (0001.tif, 0002.tif…0010.tif not 1.tif, 2.tif…10.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7160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File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hecksums (md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a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esktop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agIt Library (B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mmand line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86200" y="1854360"/>
            <a:ext cx="5083200" cy="378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Digital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nnect your media to your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ost standards have a place for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ARC: 856 $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ublin Core: &lt;identifi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ODS: &lt;identifier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DL Spreadsheet: image_directory/fil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31520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bbrev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on't us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f you must use them, send us a glossary defining the abbrev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ur translators are not librar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ery time-consuming to track down what abbreviations mean in non-English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Name Authority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o us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irtual International Authority File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1"/>
              </a:rPr>
              <a:t>http: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//viaf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3"/>
              </a:rPr>
              <a:t>.org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reator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E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U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Work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uthor’s li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+ 7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Please include 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Trans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219320"/>
            <a:ext cx="6248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Physical Med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D/DVD (prone to errors &amp; corru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Hard Drive (prefer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Net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e FTP/HTTP from you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ou deliver to our new S3 drop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477120" y="2895480"/>
            <a:ext cx="1915920" cy="33912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49000"/>
              </a:srgbClr>
            </a:outerShdw>
          </a:effectLst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Trans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371600"/>
            <a:ext cx="6781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ontact 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We'll send you S3 logi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You uploa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We download to our landing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2209680"/>
            <a:ext cx="0" cy="28195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467480" y="1600200"/>
            <a:ext cx="0" cy="2743200"/>
          </a:xfrm>
          <a:prstGeom prst="line">
            <a:avLst/>
          </a:prstGeom>
          <a:ln w="57240">
            <a:solidFill>
              <a:srgbClr val="008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637000"/>
            <a:ext cx="8381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andy Bo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ontent Manager, World Digita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Library of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Franklin Gothic Medium"/>
              </a:rPr>
              <a:t>sbos@loc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Unlimited space for up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Your box isn't shared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any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omman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3 protocol vs. 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Trans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2451240" cy="2730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162920" y="2133720"/>
            <a:ext cx="1282680" cy="1168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Trans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Look for documentation of the new transfer process and tools soon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i="1" lang="en-US" sz="8000" spc="-1" strike="noStrike">
                <a:solidFill>
                  <a:srgbClr val="558ed6"/>
                </a:solidFill>
                <a:latin typeface="Arial"/>
                <a:ea typeface="Arial Unicode MS"/>
              </a:rPr>
              <a:t>project.wdl.org</a:t>
            </a:r>
            <a:r>
              <a:rPr b="1" i="1" lang="en-US" sz="8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40160" y="2755800"/>
            <a:ext cx="3251160" cy="1282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745800" y="386712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 Black"/>
              </a:rPr>
              <a:t>www.wdl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523880"/>
            <a:ext cx="84582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5584d5"/>
                </a:solidFill>
                <a:latin typeface="Arial"/>
                <a:ea typeface="Arial Unicode MS"/>
              </a:rPr>
              <a:t>WDL Partner Me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5584d5"/>
                </a:solidFill>
                <a:latin typeface="Arial"/>
                <a:ea typeface="Arial Unicode MS"/>
              </a:rPr>
              <a:t>“</a:t>
            </a:r>
            <a:r>
              <a:rPr b="1" lang="en-US" sz="4000" spc="-1" strike="noStrike">
                <a:solidFill>
                  <a:srgbClr val="5584d5"/>
                </a:solidFill>
                <a:latin typeface="Arial"/>
                <a:ea typeface="Arial Unicode MS"/>
              </a:rPr>
              <a:t>Preparing Your Conten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5584d5"/>
                </a:solidFill>
                <a:latin typeface="Arial"/>
                <a:ea typeface="Arial Unicode MS"/>
              </a:rPr>
              <a:t>Washington, D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5584d5"/>
                </a:solidFill>
                <a:latin typeface="Arial"/>
                <a:ea typeface="Arial Unicode MS"/>
              </a:rPr>
              <a:t>December 5,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355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8000" spc="-1" strike="noStrike">
                <a:solidFill>
                  <a:srgbClr val="0084d1"/>
                </a:solidFill>
                <a:latin typeface="Arial"/>
              </a:rPr>
              <a:t>project.wdl.or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572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371600"/>
            <a:ext cx="85345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Why does quality ma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our images are what people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▪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eep Zoom shows fla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▪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ut your best foot forwar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our metadata runs the dis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572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is a digital o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edia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06600" y="23875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3360" indent="-331920">
              <a:spcBef>
                <a:spcPts val="300"/>
              </a:spcBef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5156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Part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971440" y="2437920"/>
            <a:ext cx="3352680" cy="304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71200" y="4235400"/>
            <a:ext cx="18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3360" indent="-331920">
              <a:spcBef>
                <a:spcPts val="300"/>
              </a:spcBef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5156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D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27560" y="4266720"/>
            <a:ext cx="312552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970000" y="2743200"/>
            <a:ext cx="3354120" cy="6094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1400" y="4648320"/>
            <a:ext cx="3811320" cy="51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371600"/>
            <a:ext cx="8220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olo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e don't have the originals, you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se a color reference tar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743200" cy="1960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160800" cy="27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263520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371600"/>
            <a:ext cx="8220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eep Zoom shows f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00 pixels per inch (ppi) or 118 pixels per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00 ppi resolution is at 100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f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1 x 8 book should be 3300 pixels x 2400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Just because it says 300 in Photoshop doesn't mean it's 300 at origina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1219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690560"/>
            <a:ext cx="85345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Arial"/>
              </a:rPr>
              <a:t>Before You Send It: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219320"/>
            <a:ext cx="8153280" cy="1440"/>
          </a:xfrm>
          <a:prstGeom prst="line">
            <a:avLst/>
          </a:prstGeom>
          <a:ln w="64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171960" cy="4298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9920" y="2133720"/>
            <a:ext cx="1581120" cy="214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16200000">
            <a:off x="-1710000" y="3157920"/>
            <a:ext cx="44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~~~~~~~~~~~ 3400 ~~~~~~~~~~~~~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4604760" y="3013560"/>
            <a:ext cx="22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~~~~ 1700 ~~~~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62280" y="133812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pixels per inch in Photo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676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962160" y="1676520"/>
            <a:ext cx="14475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7640" y="57578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6520" y="4495320"/>
            <a:ext cx="33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ffectively 200 pixels per i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9:18:05Z</dcterms:created>
  <dc:creator>mpr</dc:creator>
  <dc:description/>
  <dc:language>en-US</dc:language>
  <cp:lastModifiedBy>Library of Congress Library of Congress</cp:lastModifiedBy>
  <cp:lastPrinted>2009-04-22T19:24:48Z</cp:lastPrinted>
  <dcterms:modified xsi:type="dcterms:W3CDTF">2013-03-20T16:02:21Z</dcterms:modified>
  <cp:revision>277</cp:revision>
  <dc:subject/>
  <dc:title>PowerPoint Presentation</dc:title>
</cp:coreProperties>
</file>